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86BE-F715-469A-8109-21D9DA0455C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CC17-4F46-4AC7-A62A-7F4F578D766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gain, discussions can be monitored and corrections for errors elicited post t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86D9-6589-4CD2-84D0-B5E1F9A89CB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F559-2695-4105-951F-D9F726B1B40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DDFE-4926-46E1-BE96-87856DCC4820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6A55-577A-4B33-A939-B691A014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006-C32F-4BFD-ABD6-2CB4F015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7BF7-8F24-47A1-8481-E4C8CFC3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A5F3-289D-4CEC-BEC3-EB94BFDE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7132-055A-4A7F-BCB9-77116F2D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C0F1-ACA1-4A30-91E2-2038B004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AAB2-E7A6-4B99-91E3-7AC29C53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C0BF-95E5-4544-AF36-A96B5534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D556-9647-4784-8ABA-8ADF538B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A013-5FF5-4089-97A0-3C341AEE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FB88-BDDC-40D5-89D4-43D14D2C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D06F-DEE7-4DE6-98BE-07A73931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CD39-533D-40ED-B74A-7591ABDB7EF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Country_profile:_Mauritius" TargetMode="External"/><Relationship Id="rId2" Type="http://schemas.openxmlformats.org/officeDocument/2006/relationships/hyperlink" Target="http://eewiki.newint.org/index.php/Country_profile_-_Indonesia" TargetMode="External"/><Relationship Id="rId3" Type="http://schemas.openxmlformats.org/officeDocument/2006/relationships/hyperlink" Target="http://eewiki.newint.org/index.php/Country_profile_-_Indonesia" TargetMode="External"/><Relationship Id="rId4" Type="http://schemas.openxmlformats.org/officeDocument/2006/relationships/hyperlink" Target="http://eewiki.newint.org/index.php/Country_profile_-_Malawi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Country_profile:_Mauritius" TargetMode="External"/><Relationship Id="rId2" Type="http://schemas.openxmlformats.org/officeDocument/2006/relationships/hyperlink" Target="http://eewiki.newint.org/index.php/Country_profile_-_Indonesia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78136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alibri"/>
              </a:rPr>
              <a:t>QUIZ: Indonesia, Malawi or Mauritius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71640" y="5516640"/>
            <a:ext cx="74088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2916360" y="189000"/>
            <a:ext cx="6011640" cy="151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3132000" y="189000"/>
            <a:ext cx="6012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Which countries were these photos taken i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95280" y="1263600"/>
            <a:ext cx="3121200" cy="3119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5796000" y="11970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3203640" y="2557440"/>
            <a:ext cx="2508120" cy="3747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4"/>
          <a:stretch/>
        </p:blipFill>
        <p:spPr>
          <a:xfrm>
            <a:off x="17640" y="44323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443640" y="4307040"/>
            <a:ext cx="24112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What do you know about these countries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law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urit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done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762200" y="1557360"/>
            <a:ext cx="1936800" cy="1936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6875640" y="1089000"/>
            <a:ext cx="2089080" cy="2087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4067280" y="3994200"/>
            <a:ext cx="1865160" cy="27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1031760" y="461016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5"/>
          <a:stretch/>
        </p:blipFill>
        <p:spPr>
          <a:xfrm>
            <a:off x="6500880" y="3284640"/>
            <a:ext cx="2463840" cy="2463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6"/>
          <a:stretch/>
        </p:blipFill>
        <p:spPr>
          <a:xfrm>
            <a:off x="412920" y="1754280"/>
            <a:ext cx="1149120" cy="771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7"/>
          <a:stretch/>
        </p:blipFill>
        <p:spPr>
          <a:xfrm>
            <a:off x="2725560" y="3713040"/>
            <a:ext cx="1202040" cy="803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8"/>
          <a:stretch/>
        </p:blipFill>
        <p:spPr>
          <a:xfrm>
            <a:off x="5280120" y="2139840"/>
            <a:ext cx="1306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hich (of Malawi, Indonesia or Mauritius) are the following statements about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4000" y="141300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opulation: 239.9 million / life expectancy: 6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opulation: 14.9 million / life expectancy: 5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opulation: 1.3 million / life expectancy: 7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t’s the biggest investor in I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lmost half the population live on under 2 dollars a d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dodo became extinct here in 178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t became independent from the British in 196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t had the first female President in southern Africa (Joyce Banda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quickly scan the 3 articles to find 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7640" y="1700280"/>
            <a:ext cx="878508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auritiu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Country_profile:_Mauriti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ndonesi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</a:t>
            </a:r>
            <a:r>
              <a:rPr b="0" lang="en-GB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://eewiki.newint.org/index.php/Country_profile_-_Indones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Calibri"/>
              </a:rPr>
              <a:t>Malawi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ewiki.newint.org/index.php/Country_profile_-_Malaw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5"/>
          <a:stretch/>
        </p:blipFill>
        <p:spPr>
          <a:xfrm>
            <a:off x="2774880" y="4292640"/>
            <a:ext cx="1146240" cy="768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6"/>
          <a:stretch/>
        </p:blipFill>
        <p:spPr>
          <a:xfrm>
            <a:off x="3059280" y="2973240"/>
            <a:ext cx="1304640" cy="871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7"/>
          <a:stretch/>
        </p:blipFill>
        <p:spPr>
          <a:xfrm>
            <a:off x="3059280" y="1628640"/>
            <a:ext cx="120168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e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5843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pulation: 239.9 million / life expectancy: 6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pulation: 14.9 million / life expectancy: 5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pulation: 1.3 million / life expectancy: 7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’s the biggest investor in In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most half the population live on under 2 dollars a 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dodo became extinct here in 17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 became independent from the British in 19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 had the first female President in southern Africa (Joyce Band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659280" y="1599840"/>
            <a:ext cx="2027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nes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law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uriti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uriti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nes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uriti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uriti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law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5651640" y="165240"/>
            <a:ext cx="13237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read, compare and learn new language from all 3 articl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asier English artic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uritius: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Country_profile:_Mauriti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donesia: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eewiki.newint.org/index.php/Country_profile_-_Indones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lawi: http://eewiki.newint.org/index.php/Country_profile_-_Malaw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Original artic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uritiu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newint.org/columns/country/2013/04/01/country-profile-mauritius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dones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newint.org/columns/country/2013/05/01/country-profile-indonesia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law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newint.org/columns/country/2013/06/01/malawi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276720" y="4941720"/>
            <a:ext cx="10713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14:37:08Z</dcterms:created>
  <dc:creator>Linda Ruas</dc:creator>
  <dc:description/>
  <dc:language>en-US</dc:language>
  <cp:lastModifiedBy>Linda Ruas</cp:lastModifiedBy>
  <dcterms:modified xsi:type="dcterms:W3CDTF">2014-05-26T14:19:17Z</dcterms:modified>
  <cp:revision>28</cp:revision>
  <dc:subject/>
  <dc:title>Countries</dc:title>
</cp:coreProperties>
</file>